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4D6-774C-4019-9E8E-ED0262B2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09B-A46E-4560-85FF-19FA3B98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7CD-C18A-4006-AF9F-D37AF68A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ABF-7B89-465B-B2BA-6BDA6617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F67-04E9-4594-8FBA-6921C80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F17-B54C-4630-87CC-53E7DE95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825-72A3-4313-B8DA-6AAC86C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6B7-29F8-4631-98A3-1FC7B062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55A-75BC-41A2-854D-0DB00107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BA1-1E01-44C7-993C-0C0BC141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59C-6795-419D-8E39-3C287A5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4E5-7B13-49A3-8F87-CAE0451F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1502-F973-46E1-BE16-56028E9323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859040" y="3041640"/>
            <a:ext cx="213336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176560" y="3456000"/>
            <a:ext cx="1584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841400" y="2968560"/>
            <a:ext cx="213372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2266920" y="3402000"/>
            <a:ext cx="15303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901800" y="3151080"/>
            <a:ext cx="2133360" cy="55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890640" y="2419200"/>
            <a:ext cx="5089320" cy="695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3206880" y="3151080"/>
            <a:ext cx="302256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841320" y="3949560"/>
            <a:ext cx="4816440" cy="513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4559400"/>
            <a:ext cx="276696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828720" y="5157720"/>
            <a:ext cx="27684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8T10:41:26Z</dcterms:modified>
  <cp:revision>8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